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177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74C1-A583-404E-A991-0F047719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C70D-0706-40B2-87F4-6DB5EBC6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F188-FE8E-47BA-A205-CDD3B1F3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8E4E-5D60-4C11-ABF1-6F5AEE42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46C-4945-43DE-B1B1-116C2881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AA5-7068-4196-A2D6-57A83F98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783-8482-408C-9CDB-DC895903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301-4372-49D2-958F-11F819E7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D94-E72D-413C-8C53-EBD0BDA2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97D-A45C-417F-BB75-A810E48F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5AA-F95B-48EB-974F-CC4E549A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D32-1D0C-4E67-87FE-CF6BE4D1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A676-342D-455A-B7FA-37D1844F5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Bright"/>
              </a:rPr>
              <a:t>High-Frequency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Bright"/>
              </a:rPr>
              <a:t>Second 100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it bac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went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 to the poi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we sh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 the 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your b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 o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found it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y and lear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d of 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ll your n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a lit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od Ameri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 your cloth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y it ag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of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it a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the ph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n the pag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ir is war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my lett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still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only 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n 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need mo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udy in scho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an America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h a m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 it ou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a small wor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and sm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 sweet h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ound the c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w and t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must be righ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the tru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and plen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me ou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turned out we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your p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think s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years 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the boo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 the ri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ve and pl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ood 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he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st of the 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best th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the s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ast 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’s very g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k before you a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her says to n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new 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yo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hel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ork too muc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 old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 the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her means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e time tomor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the tru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ittle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great s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llowing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came ho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ant to 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w us arou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 two li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mall house al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old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one sent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 it 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t it t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a lit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es it e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don’t feel we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me is larg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turned out we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the sent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must be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 it o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h a big h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n asked for hel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ifferent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1:25:00Z</dcterms:created>
  <dc:creator>Rob Hall</dc:creator>
  <dc:description/>
  <dc:language>en-US</dc:language>
  <cp:lastModifiedBy>test2</cp:lastModifiedBy>
  <dcterms:modified xsi:type="dcterms:W3CDTF">2008-01-30T17:03:39Z</dcterms:modified>
  <cp:revision>3</cp:revision>
  <dc:subject/>
  <dc:title>High-Frequency Phrases</dc:title>
</cp:coreProperties>
</file>